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gif" ContentType="image/gif"/>
  <Override PartName="/ppt/media/image7.wmf" ContentType="image/x-wmf"/>
  <Override PartName="/ppt/media/image8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A44F-ADFF-43DC-9DEA-189A2D041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79DD-0FCC-4125-93B6-8D647D387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6BA3-736E-4473-B2C2-E9166783F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26F1-88AB-41A9-BD23-E8DD1E85B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BD1-774D-40B0-A25A-52522D35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915-F10C-42B0-A0D8-92A09C07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E2F-8B33-4377-84E5-248B8F8B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50C-C531-44E7-B813-4EC3BA33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DE1A-10FD-40DF-8D6C-679E2588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9C80-261E-4CB5-868B-DF2B0250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06B1-7899-4635-B3FF-A9F28B6B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DF5F-F965-44A2-AF66-BDD85EFE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B86D-0836-461D-A573-9DF2121A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B549-21B7-4F66-AFC1-B06157C1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0100-3D3D-463E-9DBC-EE652D76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3ED-2B58-4892-9CFD-8B7C3EC6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8D5A-A5C4-4E6D-8118-12039329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9B32-AA05-4628-A990-C4BB819C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A1B1-FF4B-4EA9-869A-11640F40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FC4D-EC15-4097-A4BF-B6C607C5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A06C-7CE0-4FAC-B070-471BE237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BA95-5471-4314-99FE-181D9AAD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D050-3087-45B5-85FB-8527C6BD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DF3A6-6D0C-49C1-B132-4BD45019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FBFA-16DC-432F-9BCF-18090D3B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C40F7-8937-4EB7-B8FD-4F620CB4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178-B003-456C-90AD-44C43564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4D43-A7C6-4D7F-B5B1-FC36DA1F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7AB2-EB70-444C-B6B9-993FC2BB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25A8A-2178-4FB6-BF6E-C417112E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6A99-74A9-4D6D-B547-DDAE189E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456B-4C94-453E-B5E1-108DBBE9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02204-BC94-40D2-98F7-181F3683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48E4-4F2F-4A32-9644-4915837B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3E574-7CDF-4C3F-8636-A8A83E79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2C4F2-0430-400D-8372-04D97CF3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C54D7-CBD7-4400-81A6-316E8870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37B-F6EE-40D5-A043-800B6C7B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946B-FE72-4A01-AC3E-A20B9B6B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4F3F-A3D8-4038-9466-BC9C3152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6439C-A0D9-4D83-9D6A-B70E2F06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BD30B-ED1E-40F6-ADBB-FBCE16A6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E7FD5-06B1-41CD-A2FA-DB7DF24A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18E03-652C-4381-BE2E-CF88CFFE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879E-DDA5-4DBC-8CCF-EFDE74C6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95876-0B52-4199-9B02-DC310F72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460D-14C3-43F0-B22F-57F914F4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4B5-D29B-42AD-8F20-D3CAD973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6D7-B39F-460A-A7B3-DEA8C709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B71-D749-49AB-A745-8EDAAAB5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106-A77C-4ECA-B08F-94018738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DA6-640D-43E7-94E3-7FE1D9D3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93CD-760C-4A84-B832-3CE4BCC5078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71A6-000D-4D0D-B536-F6DC507BB2C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80FA-A3D0-482A-8B9F-BD65547A30D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3628-D1A2-4DDF-987D-E4A7BAC1817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blogs.suite101.com/article.cfm/blogging_etiquette" TargetMode="Externa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IGITAL CITIZENSHIP-ETIQUETTE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en, Where, How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ell phone use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ways use discretion when using  your cell phone in public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log commenting-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gs are an educational way to learn from others and share your ideas on a topic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3" descr="C:\Program Files\Microsoft Office\Media\CntCD1\Animated\j0300508.gif"/>
          <p:cNvPicPr/>
          <p:nvPr/>
        </p:nvPicPr>
        <p:blipFill>
          <a:blip r:embed="rId1"/>
          <a:stretch/>
        </p:blipFill>
        <p:spPr>
          <a:xfrm>
            <a:off x="457200" y="4191120"/>
            <a:ext cx="1981080" cy="1761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6172200" y="41148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ELL PHONE 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afety - Pay attention to the ro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olume - Speak softl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oximity - Keep your distance. (10 to 20 ft. of another pers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ntent - Keep business priv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one - Keep a civil and pleasant ton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ocation - Pick your spot. (look for a good signal before call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iming - No cell phone before it's time. (entering building, airplane ect.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ulti-Tasking - One thing at a tim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C:\Program Files\Microsoft Office\Media\CntCD1\ClipArt8\j0343569.wmf"/>
          <p:cNvPicPr/>
          <p:nvPr/>
        </p:nvPicPr>
        <p:blipFill>
          <a:blip r:embed="rId1"/>
          <a:stretch/>
        </p:blipFill>
        <p:spPr>
          <a:xfrm>
            <a:off x="6705720" y="0"/>
            <a:ext cx="1787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OG COMMENTING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C:\Documents and Settings\101eckertpa.RRISD\Local Settings\Temporary Internet Files\Content.IE5\D4MI3R5J\MPj04393500000[1].jpg"/>
          <p:cNvPicPr/>
          <p:nvPr/>
        </p:nvPicPr>
        <p:blipFill>
          <a:blip r:embed="rId1"/>
          <a:stretch/>
        </p:blipFill>
        <p:spPr>
          <a:xfrm>
            <a:off x="457200" y="21193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ponsible, respect, relax-global aud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cific top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’t steal other’s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tribution-return credit </a:t>
            </a:r>
            <a:r>
              <a:rPr b="0" lang="en-US" sz="11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blogs.suite101.com/article.cfm/blogging_etiquette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use before you submit-you may regret what you wrot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n’t promote yourself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C:\Documents and Settings\101eckertpa.RRISD\Local Settings\Temporary Internet Files\Content.IE5\MEUGZRBF\MCj04346710000[1].wmf"/>
          <p:cNvPicPr/>
          <p:nvPr/>
        </p:nvPicPr>
        <p:blipFill>
          <a:blip r:embed="rId3"/>
          <a:stretch/>
        </p:blipFill>
        <p:spPr>
          <a:xfrm>
            <a:off x="7229520" y="0"/>
            <a:ext cx="19144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9:27:42Z</dcterms:created>
  <dc:creator>101eckertpa</dc:creator>
  <dc:description/>
  <dc:language>en-US</dc:language>
  <cp:lastModifiedBy>RRISD</cp:lastModifiedBy>
  <dcterms:modified xsi:type="dcterms:W3CDTF">2009-03-13T20:20:30Z</dcterms:modified>
  <cp:revision>10</cp:revision>
  <dc:subject/>
  <dc:title>DIGITAL CITIZENSHIP</dc:title>
</cp:coreProperties>
</file>